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6658-3228-4F5E-8191-F814ABF27D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3418-120C-4511-84EE-B647F31DC7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й схеме собраны почти все варианты  названий трех уровней распределенного приложения. Чтобы избежать путаницы, будем именовать уровни так: 1st tier, 2nd tier и 3rd tier, по причине краткости написания. Выбирать названия по другим критериям слишком сложно. 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B7AFB-1267-49D8-B405-B28D806B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243D-3049-43F6-937D-B622CA3F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11DA-9454-4BE2-80A1-CD4EC01B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CB142-7959-4319-B453-4B473772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1944-0A83-45FE-8735-72E68D46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B265-A5D6-4008-B2B4-3D494461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02E6-0A19-42A2-9AD3-3C32F52D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0F09-B489-41BF-BB2C-F5E9AA20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A5F5-BCFB-44E7-92B2-C8314455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C440-D047-44D2-AD7B-9FAADD25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70DB-0CE1-4992-8CB7-047F24CA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4601-126D-4249-A0FB-B3F15640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F744-3442-4644-BB7D-2A1F7271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5448-ED90-4FDA-975A-5E9AFF90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C65E-A0D9-4D7B-AFA3-2096412A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D11B-1813-4867-B406-A6BC7011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E0DF-A284-4057-A4F6-B910470F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64217-B36C-4143-BA46-68B6BF43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00A9E-D162-4CEF-A714-00888751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DD018-5345-4F0E-BCA5-47D71ABF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127D6-E42A-4DE9-A59F-93C7EB7F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0B2D3-8F2C-4EBF-8773-B5120B65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6C5DE-E3B5-4A64-9537-A9101F02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65D5-59C9-4E57-BCD9-BA306AB4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A0AD-1505-48C5-9C9A-D8C29CE676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B3B0-459B-4BEB-BEFA-77867C41EB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одели клиент-серве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х уровневая модель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ая модель (идеальная и фактическая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нципы построения клиент серверных приложений при использовании двух- 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ой модели построения приложен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(идеальны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494172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Такой подход позволяет четко очертить границы уровня бизнес-логики и отличие 3-х уровневого подхода от 2-х уровневого (клиент-серв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inet184_5"/>
          <p:cNvPicPr/>
          <p:nvPr/>
        </p:nvPicPr>
        <p:blipFill>
          <a:blip r:embed="rId1"/>
          <a:stretch/>
        </p:blipFill>
        <p:spPr>
          <a:xfrm>
            <a:off x="900000" y="1844640"/>
            <a:ext cx="6912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68360" y="378936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актике, мы имеем нечто подобное. По различным причинам бизнес-логика остается на 1st и 3rd tier. Это может быть оправдано, если не приведет к перегрузке уровня, на котором находится ненормированный код. И если этот код легко можно перенести в 2nd tier объекты. Например,  поместив бизнес-логику в хранимые процедуры в 3rd tier, мы можем получить большой выигрыш в производительности. Если же эти хранимые процедуры написаны в виде внешних модулей на высокоуровневом языке, то перенести их в 2nd tier будет несложно. А вот бизнес-логика на 1st tier распространена повсеместно (как уже упоминалось), и, обычно, связана с неудачной архите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inet184_5"/>
          <p:cNvPicPr/>
          <p:nvPr/>
        </p:nvPicPr>
        <p:blipFill>
          <a:blip r:embed="rId1"/>
          <a:stretch/>
        </p:blipFill>
        <p:spPr>
          <a:xfrm>
            <a:off x="2484360" y="1557360"/>
            <a:ext cx="3745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х 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Каждый уровень распределенного приложения может взаимодействовать только со смежным уровне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: 1st tier не должен иметь прямого доступа к 3rd tier и наоборот; 2nd и 3rd tiers не должны иметь прямого интерфейса с пользователем; обращение к источнику данных из 1st tier происходит только через объекты 2-nd ti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ся сложная бизнес-логика находится в объектах 2nd tier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же упоминалось, это условие часто нарушается, снижая возможность масштабирования. Хотя подобные решения иногда оправд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заимодействие уровней организовано так, чтобы они могли взаимодействовать по сети, находясь физически на различных  компьютерах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 распределенная архитектура не зависит от способа развертывания (deployment) приложения - все уровни могут быть размещены физически как одном компьютере, так и на разных, в условиях заданной сетевой структу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ущности данных  независимы от способа их хранения,  уникально идентифицируемы по какому-либо ключу, и независимы от способа и места хранения других сущносте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, в частности, иногда означает отсутствие в некоторых таблицах связей по внешним ключам, что позволяет хранить группы таблиц, имеющих отношение к одной сущности, в разных базах данных. Однако тогда необходимо отслеживать целостность данных дополнительным кодом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Уровни клиент-серверной архите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upload.wikimedia.org/wikipedia/commons/thumb/5/51/Overview_of_a_three-tier_application_vectorVersion.svg/400px-Overview_of_a_three-tier_application_vectorVersion.svg.png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рхитектура клиент-сервер, совсем недавно считавшаяся сложной средой, постепенно превратилась в исключительно сложную среду. Почему? Благодаря ускоренному, переходу к использованию в конструкции систем клиент-сервер нескольких звенье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онно при разработке систем клиент-сервер используются только два звена - клиент и сервер. В двухзвенной системе большую часть логики программы разработчики помещают на системе клиента, используя сервер только для обслуживания данных. Этот тип конфигурации известен также, как модель "толстый клиент - тонкий серве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inet184_3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81080" y="1600200"/>
            <a:ext cx="5329440" cy="3484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684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ической архитектуре клиент-сервер, бизнес-логика может располагаться как на стороне  клиента, так и на сервере. В результате существует тенденция смешивания бизнес-логики с интерфейсом пользователя и/или со структурой Б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Хотя двухзвенные программы клиент-сервер просты в понимании, построении и обслуживании, эту модель невозможно масштабировать до уровня предприятия. Иными словами, двухзвенная архитектура не может обеспечивать работу тысяч пользователей с программами, установленными на предприятии, и в результате для этих целей применяются большие ЭВ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того чтобы обеспечить работу при столь больших вычислительных нагрузках, разработчики освоили применение трех- или многозвенной архитектуры. Это означает, что программа клиент- сервер распределяется по дополнительным процессорам или звеньям, обеспечивающих дополнительную вычислительную мощ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inet184_2"/>
          <p:cNvPicPr/>
          <p:nvPr/>
        </p:nvPicPr>
        <p:blipFill>
          <a:blip r:embed="rId1"/>
          <a:stretch/>
        </p:blipFill>
        <p:spPr>
          <a:xfrm>
            <a:off x="1295280" y="1752480"/>
            <a:ext cx="648036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хеме на предыдущем слайде собраны почти все варианты  названий трех уровней распределенного прилож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тобы избежать путаницы, будем именовать уровни так: 1st tier, 2nd tier и 3rd tier, по причине краткости напис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бирать названия по другим критериям слишком сложн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уровня (с позиции программирования) - это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хранение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обработка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представлени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дея заключается в том, чтобы не смешивать эти три составляющи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вый подход - это просто хороший стиль программирования. Его можно применять при разработки практически любых приложен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визна же и идея распределенных приложений в том, чтобы иметь возможность распределить эти три уровня физически на различных компьютерах, а также возможность иметь несколько взаимозаменяемых вариантов каждого уровня.  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(идеальны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inet184_4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66680" y="1828800"/>
            <a:ext cx="6782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ой подход позволяет четко очертить границы уровня бизнес-логики и отличие 3-х уровневого подхода от 2-х уровневого (клиент-сервер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stov Dmitrii</cp:lastModifiedBy>
  <dcterms:modified xsi:type="dcterms:W3CDTF">2013-02-27T03:33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